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33675"/>
        <c:axId val="6009352"/>
      </c:barChart>
      <c:catAx>
        <c:axId val="72633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352"/>
        <c:crosses val="autoZero"/>
        <c:auto val="1"/>
        <c:lblAlgn val="ctr"/>
        <c:lblOffset val="100"/>
        <c:noMultiLvlLbl val="0"/>
      </c:catAx>
      <c:valAx>
        <c:axId val="600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33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635-1669-4D11-BCBC-4A2B9C4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49D-4432-459F-BA03-194FAE4F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477-21BA-4C8A-B290-655E06E3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76C-B857-4008-B953-ED40EF05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8DE-913F-4024-9EE8-4F87B77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84E-0530-4E82-A761-1B2A553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695-FE2E-4F53-9EEF-D861869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E15-8EF5-43BF-A86B-8CF4F78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EB4-F63B-4C31-91EA-9813EF54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6A0-2704-4F77-8D87-2EA8E72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0FE-D347-4D51-9C7B-8D6EB34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6EB-0893-4032-8252-A3236E4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C9C3A-FB44-461C-B7F8-8CA9EA6E9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