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58521"/>
        <c:axId val="12607530"/>
      </c:barChart>
      <c:catAx>
        <c:axId val="81358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7530"/>
        <c:crosses val="autoZero"/>
        <c:auto val="1"/>
        <c:lblAlgn val="ctr"/>
        <c:lblOffset val="100"/>
        <c:noMultiLvlLbl val="0"/>
      </c:catAx>
      <c:valAx>
        <c:axId val="12607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58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5B8-1FFF-4F62-8661-76C72C34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F11-E8AD-4E97-A889-82DD6C9E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B82-8B3A-4D70-9A13-4E396595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8BB-F1B1-469C-837C-07454845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CA0-BD92-448F-8E7D-197AEAB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054-5EC1-46A7-954A-1A7339EC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FD1-5C58-462A-BFFF-DB68EF0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533-A581-45EB-9315-20306AD6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5A4-A74C-4B1E-B6EB-CC32279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F4-078C-4CED-9B71-7FB72698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C4C-0812-4567-9F5F-13782FAE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5F2-CA46-452C-9877-AB9B13C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C2D72-061F-4E21-80D4-B747DE779E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